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B60B-8DE7-41BF-81B4-9DC07DD99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3661-4089-4021-A874-94CE47ED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CA01-AA6D-495E-B29B-004194BE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9715-87A1-487C-8283-647E569E2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EC34-DBD1-4699-A2C4-479F2859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B437-F04C-44AA-A50E-DBCB1EFA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EEC7-B56A-4E17-A626-1399768C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A2A0-8423-4127-9EBF-3BAB640C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6245-9A30-4F92-8693-1AAD4C0F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EAD7-E911-43B8-88F6-50EDAE2D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7BCE-4E27-4954-AD70-87252A9A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DF52-1162-4264-BFB7-A782DD41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D62F-EC64-4E45-87BF-AC855E6B4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1.6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ing and Ordering Integ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24160" y="1941480"/>
            <a:ext cx="52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: Finding opposite and absolute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800" y="2021040"/>
            <a:ext cx="2381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ppo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te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bsolut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25800" y="2108160"/>
            <a:ext cx="486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Numbers that are the same distance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zero on a number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97560" y="3200400"/>
            <a:ext cx="584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The set of positive whole numbers, their oppo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and z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10880" y="4343400"/>
            <a:ext cx="615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The distance a number is from zero on a number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629400" cy="31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5345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777240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34160" y="544680"/>
            <a:ext cx="512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2: Graphing and ordering inte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76960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5345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0T23:43:10Z</dcterms:created>
  <dc:creator>Graham</dc:creator>
  <dc:description/>
  <dc:language>en-US</dc:language>
  <cp:lastModifiedBy>Graham</cp:lastModifiedBy>
  <dcterms:modified xsi:type="dcterms:W3CDTF">2011-08-30T23:43:20Z</dcterms:modified>
  <cp:revision>1</cp:revision>
  <dc:subject/>
  <dc:title>Lesson 1.6 Comparing and Ordering Integers</dc:title>
</cp:coreProperties>
</file>